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A84B-226E-4DBB-8262-0CC904034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3364-6B7F-4947-898F-AA3E81FE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8860A3-33DE-42A0-8234-82197CDA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36DD2-FE5F-4FA1-98FE-3DB8C2AB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BA39D6-112B-433B-8132-11753511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6A022-E1E7-4B77-A984-D1961A3E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86706C-5812-4A62-824F-325B5164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34EB97-4A82-4E4B-8AB2-FA947FF1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449C63-C137-48EE-B1A8-C6CA66A1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441F68-1528-405C-967E-A25C4FB25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64F50-8249-4FD9-81B0-9C57DCD4C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3F0036-CB25-46A2-A6F1-6C4012C86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B678-FFF2-4FD2-B269-9DA60417F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FE6318-978B-408B-BB42-AD669C6E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B07475-3CFA-47D6-A3A8-FE1500E7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157193-D82D-432A-8901-5BD9B205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C9BABB-AD1C-4BDE-8358-FD25E911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32B9C2-1A81-4E07-ABD5-533F7A8D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6FCC5D-CC74-43AE-B92B-927C473B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6ED76D-61DF-4964-9183-6FB47849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555565-0C2C-4686-B94C-4A9B2A6A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F6A797-C813-4336-9719-DD9A4010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215897-DFF5-4845-B315-A959BB4BA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A22D-6494-4140-915D-02BCED01E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514328-CFF5-4BC2-B5EA-D87ACA17D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AA7B4-160D-4CDB-BA01-9349EF0C4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0F859-1FFF-480E-B536-81C30916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F1C6C-E07C-4C40-84D0-125FFC06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99F8D-1448-48CE-A1FB-2C47FC73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21EBD-B0C4-41BA-B454-7020EC65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C0E34-9DB4-4B0F-AC3A-D458A391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DABD7-D719-4DAB-8A25-68C920F2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14D3C-E404-4517-AAFA-674A2687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8F686-2E5D-4507-8500-4A746ED5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ABD5-0455-410B-993D-A6E95F6C9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92AC5-6F13-4BA3-B3CB-3B114171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37313-F3DD-4E57-9DCB-C668C8896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C1612-0F41-4F38-B611-DF490B06A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D0C820-03EF-4308-9E2B-93C8EC81C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327EB5-1998-4F67-8F14-C2F1EAF4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F63B8F-85D8-47EE-AAD8-D7A134DF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520462-84B1-46B4-B838-BCBED2CB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76D0C4-9F05-4729-9328-31463C00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4E8AF4-63E5-4CFF-8BCD-0569FBDE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EFB339-14C2-4DBB-BA90-F242E921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F35F-063C-4A01-84F1-7F9B09AC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EBD471-942F-4E06-9FF6-8A04E648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306E4E-4E44-4C80-A3E8-AC2DBB52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AEB4BC-39B3-4FC7-B1E8-5652013D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809AFF-19C7-4E45-A445-964477E2A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AE4D2C-C1F4-4766-973C-6CF6B173F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4254-C0AE-4CD7-B418-809D78BC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9BC5-63A2-4FE9-93F3-316F994C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CB9D-C5D9-4C55-8A7A-0E47888F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C7D7-45E5-4425-835B-CE93AF1F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283C-BE6F-4A9A-B4A3-A10AF65D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43E8-86E9-495D-A66B-F7D3CB30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D137-ACA2-405E-951F-9501E3DC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FCA7-9202-4514-BD07-51CAD88B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E0F2-B297-4EA1-A080-90AE37A4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0986-4524-4FD5-B718-161F039CC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C8FEE-1731-4784-94F4-B7BF5F02D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95C31-B74B-4D9C-B19F-5EC78C225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1EB2D-7B0D-4C00-8AD2-9BD8E015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6406A-0685-423C-AD72-72244C6F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2EE99-3BB3-413B-BE8D-58E8F2D4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E1B05-BD55-4D01-B5C1-CED85878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02E8-2824-4498-B610-F10F8F4D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515CB-9642-497A-B27A-4B1D4FFB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3C68F-6FDC-4489-BB5C-A73542C3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9065C-BF76-4C02-A481-E44447AB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872C0-A24D-4F27-978B-DFD49628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88D75-A1F8-4DF8-BC72-1AC46C02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9CFA6-A4B8-4154-91A3-A16A514C4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1421A-8AE4-4BCA-BC97-A1CDA432C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9B181-59F2-4470-A4AB-F911EAC06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263F7-3C27-43E7-8AD6-C510493D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9057A-ADD8-4063-9DA1-BC2F52C0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472D-0C7A-4A77-A79B-E737AE90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B7450-0231-4C3B-AC40-9CDACEB8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C80F2-5E29-4A98-B4EF-843EB037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B414C-1EE7-45FE-BB02-3E8215DD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35133-447C-4766-9D40-4BED2C54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1A31B-1386-4863-9B04-FD188E73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09864-6E0A-429B-AF18-2F80507A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AF726-7AD6-4CE8-9076-79885DB5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4A78D-6D02-4EFB-9219-80136C056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510CE-1716-425D-A0D0-29776990B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8A5A8-2B3A-4E64-B266-48A347171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EC26-B931-44D8-9169-7A138B58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F4300-D3C9-44B0-9100-63D3B910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22EAA-F26A-41BB-9121-E6AAAA80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BF62E-0A9C-4E0E-A651-F0BFB644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554B2-5AFB-4C73-8D56-366949F2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DA112-2794-41F1-AB9A-72837E75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FA209-707A-4CE4-9F6F-4644C7D2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5A056-BAB2-4B64-B367-09BFC977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07F92-D5C8-4829-9E2C-C72B435C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367F4-D0F0-42E6-8C9D-B6038553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DFB1E-63AF-4E7C-87B8-E2FC9A265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0886-6DF1-4255-9C4A-B05DD9BD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41DF5-6A10-4A78-B3AA-94F684B34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77514-8F76-4A91-8C6B-62E082A4A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FA5F5-376D-414B-96C6-5E44ED51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84722-CC20-4635-BE69-EE1E9B97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6F0F6-49CD-48D0-8DD4-43EE7587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0C261-3A05-4DBE-B2C2-2AEDA29D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9B901-1BD4-47A1-A642-3312FA7E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92319-0382-48C6-9187-702DE444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6B084-2276-435B-839D-C1CD49C8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97E19-6C81-42BB-98F2-918EE633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AEEE-35C0-4E3E-8F64-88733864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12E79-2D9B-47A6-8FD1-35A49ECD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0B1D1-726B-4A6E-A993-0216C92B4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A1742-B7B2-4047-B3AB-370CBA73D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13268-D5EC-42B1-8738-D3278FD2B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504F1-E571-4EC2-AFF8-EBCA18BC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B4490-763B-4180-BD32-FEADB9A4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3C86B-0A77-4CCA-B866-56CBE600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E5AD7-7E0D-413F-9CC6-D2738472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15F02-E323-4251-A784-2A4E4646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03960-D755-4C6B-846D-95A4074B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1353-9CC9-44DD-AEB4-FF99FB4D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33FD1-9E76-4939-A6F9-14AB45C8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84A76-D3A4-4E92-BA91-9C20EA5C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B3BD3-A6B4-46F9-A736-D1CDE120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BEBD5-6DB5-485D-B03F-9920317E4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8D220-776D-4AAD-9540-94E8EFEF2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C50AC-5F68-4EDC-BED7-13C7432BD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E3248-4CB2-45A9-B126-5CCAEA4B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1C475-4564-4301-9066-2ACA9815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15736-9984-46EF-A720-B063B40E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FD3CA-CFD2-4C07-8E65-70ADF0CD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AF61-B0C8-4A49-933F-64562475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456AF-2525-4E95-870F-597F2CA8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207C4-B8D6-47D1-83A8-60EB5036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530FA-D299-42BF-9C82-54474E9D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79D0D-9714-4CB7-94C4-A642CBD4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30AC1-E832-489F-A794-83424D68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989AE-6903-4480-9B0F-33D2A55B7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173D7-0F2E-4EF1-899D-3A75946E1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C52EFE-BAC4-46DE-A668-0654B17D7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E8290-71B9-4E13-80E6-12A7E4FE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9B2CED-3E48-4879-A053-FF0E05B9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4C45-929F-4D62-8F43-6BFA4E3FD1A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E516-C664-40ED-A479-B691373DF11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8DBC-C3C9-46BF-8FF6-03FD34B21E0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4E6D-B08D-4CAD-A3BD-2BA8A0B1748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F272-E3C9-4CE3-96EA-0EB073D5148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3B2D-BFFD-496D-84CC-4B9C3B079FA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F4A6-6ED9-4A64-B610-ED577834745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FE16-5F53-458A-A0D2-9573A8A002D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2719-E1AA-4459-A082-2BF0EE48C25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F7EB-3A31-460D-A44D-2A2E364FAAE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B2F2-9806-45A8-91CE-ECB220A639E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82D9-B7BA-4884-BB11-C6BBE4713F4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69 S Ježišom život má zmysel a cie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jivý liek on m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každý žia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o všetkých útrapá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 mne vždy stá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Istotne do cieľ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ôjdem raz, vi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slušnou láskou vžd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ním ísť ch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eň čo deň z mil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ho smiem ži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 každej úzk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ňho sa skry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ým žijem, deň čo deň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je môj sve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rnosť je všetk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m, kde jeho ni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remeno mojich ví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iesol môj 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vota cestou m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revádza sá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blaženej sláv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k večne žiť m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k sa mu deň čo deň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d odovzd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eň čo deň z mil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ho smiem ži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 každej úzk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ňho sa skry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ým žijem, deň čo deň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je môj sve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rnosť je všetk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m, kde jeho niet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Ježišom život m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mysel a cieľ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čo iné dúfať b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lovek tu chce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lebnosť pokor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ho kto zre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ním chce mať život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čného di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eň čo deň z mil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ho smiem ži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 každej úzk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ňho sa skry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ým žijem, deň čo deň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je môj sve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rnosť je všetk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m, kde jeho ni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tiesne život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las jeho z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búrku zúrivú utíšiť v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premenách časn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tálicou 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rozivý príboj zmien zastavu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eň čo deň z mil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ho smiem ži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 každej úzk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ňho sa skry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ým žijem, deň čo deň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je môj sve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rnosť je všetk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m, kde jeho ni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5-29T09:02:57Z</dcterms:modified>
  <cp:revision>22</cp:revision>
  <dc:subject/>
  <dc:title>Je veľký náš Pán, on slávy je Kráľ Nech do všetkých strán  spev vrúcnych znie chvál.</dc:title>
</cp:coreProperties>
</file>